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9FEE-9800-406F-8536-85E726D8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1143-FB74-49F2-9232-1E009B6A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970-2B60-497C-AE47-82451A80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8A8-B52E-48AC-9A77-0E9D32E7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CD4C-6D3A-422C-AF23-16AF70F9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55ED-D319-4317-B539-AA134838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0B4-6BAD-470D-BDBB-1862194C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3749-200E-48C7-828B-66753B84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3A3-8154-46D4-BE14-5B6D3B80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218-A14E-465F-98FA-3EFA0CF1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936B-CA25-4578-9D4C-8D711A10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3BBD-A430-43CC-B218-B60C345A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D53D-B814-46A6-9873-0258D61D1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slide7.xml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slide19.xml"/><Relationship Id="rId27" Type="http://schemas.openxmlformats.org/officeDocument/2006/relationships/slide" Target=""/><Relationship Id="rId28" Type="http://schemas.openxmlformats.org/officeDocument/2006/relationships/slide" Target="slide20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your nam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1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4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5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9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0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3 here.)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2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pskelly</cp:lastModifiedBy>
  <cp:lastPrinted>2001-01-31T16:21:13Z</cp:lastPrinted>
  <dcterms:modified xsi:type="dcterms:W3CDTF">2008-01-30T19:25:38Z</dcterms:modified>
  <cp:revision>5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